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1.png" ContentType="image/png"/>
  <Override PartName="/ppt/media/image1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34.png" ContentType="image/png"/>
  <Override PartName="/ppt/media/image33.jpeg" ContentType="image/jpeg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wmf" ContentType="image/x-wmf"/>
  <Override PartName="/ppt/media/image7.jpeg" ContentType="image/jpeg"/>
  <Override PartName="/ppt/media/image28.jpeg" ContentType="image/jpeg"/>
  <Override PartName="/ppt/media/image20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628A-E76E-421F-8EED-AFC275FB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BE1-310F-4FCF-974B-6A7C9B2C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734B-86E6-4BBA-9E6A-8813E18F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4A59-7383-45AB-929F-B659CD0D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DFB-FC19-4ADE-8269-31035342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949A-902F-4DC4-9518-A5E4AE9D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1B1-7CC2-4561-9E8A-84859F17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EF39-9E82-41E6-A7F0-C1D9A270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779-8B41-461C-A91B-493746FAE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277-F9EC-44B2-A9E4-EE626E04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E56E-91BC-4824-8658-7EFB6EFFF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94E4-A310-45E6-93CF-5402BEDF5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660-4CD0-4893-98DE-721EDFD0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1F4-9B88-4A11-84E5-23404322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FF5-0A51-4AB0-8D84-82DF9E2E7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74C-E3EF-4918-97E5-978CC58B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19F-7D34-4C90-82DE-7D8A31A6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C00-4CBB-4B0F-A2D0-E204D360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FDA-2706-4598-8BCE-C30BC6D9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A1E-9250-404E-839C-DECD269D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32D8-E197-4325-980D-EE71D618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20BA-96FC-4DC3-A962-87F1C09B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BF47-8B8C-478A-AACA-570A380F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86B0-E655-49F5-B326-B829826A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843-9625-41C3-AD87-833725A2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D82-DA42-45CD-BCCE-4E07388A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391-62A9-4E0C-B727-23AA8A82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743-2269-4DD8-8275-7B57F8EE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1826-7DC9-4899-9A5C-8C10511AB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768-13D4-4BA5-9217-D05B8450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3AA-0D11-4D56-8B73-1EF35308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DBA-8F7A-4D56-B34E-88DE06EB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F48-F1E8-4D5D-89ED-0CCCD8DF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ABD-202F-4E91-B058-49373412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01C-B049-4651-AFFB-83A7417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9DB-26CA-4C22-ABE4-4DFAEF1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7F1-699B-4C3C-9A85-3C94AAD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E4A-21E2-45E2-90A5-9DEE7DE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0BE-C4F6-4A97-9A40-68588D0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F49-0A11-4C56-B0C1-A8D1157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C5C-27E1-4C98-9DDC-2B2B78B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F859-CB39-4B0E-8579-660D8C11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4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CO4wzEX0rB9AR6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7" name="_s1028"/>
            <p:cNvCxnSpPr>
              <a:stCxn id="138" idx="0"/>
              <a:endCxn id="139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6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4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CO4wzEX0rB9AR6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7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1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5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9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0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42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3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45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6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9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50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7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Using Video Learning Objects in the Classroo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3124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1106640"/>
            <a:ext cx="883944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Introduce new units, topics and concepts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ddress core content needs 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across the curriculu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Use to</a:t>
            </a: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show peoples’ emotions and internal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dialogue to create student empathy with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characters in practical living scenario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ppeals to school age viewer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through pacing, young actor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narrators, a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6" name="Picture 5" descr="The image “file:///C:/Documents%20and%20Settings/lmoore/My%20Documents/My%20Pictures/MVC-001S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867280" y="44956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867280" y="4495680"/>
            <a:ext cx="2971800" cy="2210040"/>
          </a:xfrm>
          <a:prstGeom prst="rect">
            <a:avLst/>
          </a:prstGeom>
          <a:noFill/>
          <a:ln w="5724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Brings the outside world into th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classroom such as field trips/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Demonstrates abstract concept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nd  processes visually through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 variety of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ters to Gardner’s Multipl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Intelligences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used to differentiate instruction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for individual students o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manipulated by the students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to make it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Video Learning Objects in the Classroom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5" descr="MPj03997530000[1]"/>
          <p:cNvPicPr/>
          <p:nvPr/>
        </p:nvPicPr>
        <p:blipFill>
          <a:blip r:embed="rId1"/>
          <a:stretch/>
        </p:blipFill>
        <p:spPr>
          <a:xfrm>
            <a:off x="6781680" y="1143000"/>
            <a:ext cx="2186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4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0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24T13:19:30Z</dcterms:modified>
  <cp:revision>205</cp:revision>
  <dc:subject/>
  <dc:title>Slide 1</dc:title>
</cp:coreProperties>
</file>